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7D9-6112-47A3-9ACC-4791D646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1C5-57CA-4742-AADB-CAD860E3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BEB-F0DF-4B86-BE67-02B7B609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5C2-D680-465E-8A82-8D1BBA5C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03F-DD72-4083-8E04-3BC96CE8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FB2-E473-46F9-B499-22399C4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955-A8C5-4BB9-9C6D-D333C361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9B1-2444-4432-9AD1-1098DEA6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317-D365-4D57-93AD-4F43D111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A04-ACF7-4448-90A8-72ECE68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DA0-21ED-4F0D-B347-87F9D3C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89F-68C3-4BDC-AE2F-CF9AEFF8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0A21-0998-4F91-ACE2-30CCEECA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395280"/>
            <a:ext cx="9009000" cy="1052640"/>
            <a:chOff x="0" y="395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503280"/>
              <a:ext cx="711360" cy="474840"/>
              <a:chOff x="290520" y="503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503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503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925560"/>
              <a:ext cx="737640" cy="474840"/>
              <a:chOff x="414360" y="925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925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925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852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395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1217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0400" y="33624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Roots &amp; Zeros of Polynomials 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21920" y="1965240"/>
            <a:ext cx="658332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he roots, solutions, zeros,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intercepts and factors of a polynomial function are related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875"/>
                            </p:stCondLst>
                            <p:childTnLst>
                              <p:par>
                                <p:cTn id="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9"/>
          <p:cNvGrpSpPr/>
          <p:nvPr/>
        </p:nvGrpSpPr>
        <p:grpSpPr>
          <a:xfrm>
            <a:off x="5932440" y="1859040"/>
            <a:ext cx="2173320" cy="3079800"/>
            <a:chOff x="5932440" y="1859040"/>
            <a:chExt cx="2173320" cy="3079800"/>
          </a:xfrm>
        </p:grpSpPr>
        <p:pic>
          <p:nvPicPr>
            <p:cNvPr id="144" name="Picture 4" descr=""/>
            <p:cNvPicPr/>
            <p:nvPr/>
          </p:nvPicPr>
          <p:blipFill>
            <a:blip r:embed="rId1"/>
            <a:srcRect l="31186" t="20283" r="43685" b="13214"/>
            <a:stretch/>
          </p:blipFill>
          <p:spPr>
            <a:xfrm>
              <a:off x="6057720" y="1859040"/>
              <a:ext cx="2003760" cy="2668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5" name="Object 8"/>
            <p:cNvGraphicFramePr/>
            <p:nvPr/>
          </p:nvGraphicFramePr>
          <p:xfrm>
            <a:off x="5932440" y="4503960"/>
            <a:ext cx="2173320" cy="43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32440" y="4503960"/>
                      <a:ext cx="217332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x</a:t>
            </a: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-Intercepts of a Polynom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23840" y="1933560"/>
            <a:ext cx="421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nts where y = 0 are called th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-inter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grap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25640" y="3965400"/>
            <a:ext cx="44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-inter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our graph are the point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154400" y="5330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541600" y="534816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-5,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634080" y="2901960"/>
            <a:ext cx="171360" cy="169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424480" y="53308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3,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7299360" y="2906640"/>
            <a:ext cx="171360" cy="169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3438360" y="3071880"/>
            <a:ext cx="3200400" cy="216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0"/>
          <p:cNvSpPr/>
          <p:nvPr/>
        </p:nvSpPr>
        <p:spPr>
          <a:xfrm flipV="1">
            <a:off x="6143760" y="3106800"/>
            <a:ext cx="1143000" cy="21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x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-Intercepts of a Polynom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11240" y="1990800"/>
            <a:ext cx="777240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ct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ynomial Expre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set equal to zero, we get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olu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oo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ynomial Eq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42920" y="4092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s/Ro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ynomial Eq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s for the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ynomial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Factors, Roots, Zer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Object 0"/>
          <p:cNvGraphicFramePr/>
          <p:nvPr/>
        </p:nvGraphicFramePr>
        <p:xfrm>
          <a:off x="5616720" y="2340000"/>
          <a:ext cx="281772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2340000"/>
                    <a:ext cx="28177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"/>
          <p:cNvSpPr/>
          <p:nvPr/>
        </p:nvSpPr>
        <p:spPr>
          <a:xfrm>
            <a:off x="1022400" y="176364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ou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4240" y="3605040"/>
            <a:ext cx="7734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c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) &amp;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ots/Sol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5 and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-5, 0) and (3, 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6320" y="3837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Roots &amp; Zeros of Polynomials I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33000" y="1652760"/>
            <a:ext cx="81565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inding the Roots/Zeros of Polynomi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undamental Theorem of Alg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artes’ Rule of 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lex Conjugate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f01"/>
                </a:solidFill>
                <a:latin typeface="Tahoma"/>
              </a:rPr>
              <a:t>Fundamental Theorem Of Algeb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022400" y="1763640"/>
            <a:ext cx="767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ry Polynomial Equation with a degree higher than zero has at least one root in the set of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mplex 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1003320" y="3741840"/>
            <a:ext cx="7734240" cy="2459520"/>
            <a:chOff x="1003320" y="3741840"/>
            <a:chExt cx="7734240" cy="2459520"/>
          </a:xfrm>
        </p:grpSpPr>
        <p:sp>
          <p:nvSpPr>
            <p:cNvPr id="170" name="Text Box 5"/>
            <p:cNvSpPr/>
            <p:nvPr/>
          </p:nvSpPr>
          <p:spPr>
            <a:xfrm>
              <a:off x="1003320" y="4157640"/>
              <a:ext cx="7734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68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 Polynomial Equation of the form P(x) = 0 of degree ‘n’ with complex coefficients has exactly ‘n’ Roots in the set of Complex Numbers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1025640" y="3741840"/>
              <a:ext cx="22572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ahoma"/>
                </a:rPr>
                <a:t>COROLLARY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al/Imaginary Ro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22400" y="1763640"/>
            <a:ext cx="767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a polynomial has ‘n’ complex roots will its graph have ‘n’ x-intercep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098720" y="3089160"/>
            <a:ext cx="3735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example, the degre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if we factor the polynomial, the roots a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-2, 0, 2.  We can also see from the graph that there ar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12"/>
          <p:cNvGrpSpPr/>
          <p:nvPr/>
        </p:nvGrpSpPr>
        <p:grpSpPr>
          <a:xfrm>
            <a:off x="5324400" y="2708280"/>
            <a:ext cx="3173040" cy="3903120"/>
            <a:chOff x="5324400" y="2708280"/>
            <a:chExt cx="3173040" cy="3903120"/>
          </a:xfrm>
        </p:grpSpPr>
        <p:graphicFrame>
          <p:nvGraphicFramePr>
            <p:cNvPr id="176" name="Object 8"/>
            <p:cNvGraphicFramePr/>
            <p:nvPr/>
          </p:nvGraphicFramePr>
          <p:xfrm>
            <a:off x="6000480" y="2708280"/>
            <a:ext cx="1895760" cy="42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00480" y="2708280"/>
                      <a:ext cx="1895760" cy="42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8" name="Picture 11" descr=""/>
            <p:cNvPicPr/>
            <p:nvPr/>
          </p:nvPicPr>
          <p:blipFill>
            <a:blip r:embed="rId3"/>
            <a:srcRect l="37560" t="21243" r="41821" b="23145"/>
            <a:stretch/>
          </p:blipFill>
          <p:spPr>
            <a:xfrm>
              <a:off x="5324400" y="3170880"/>
              <a:ext cx="3173040" cy="344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al/Imaginary Ro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022400" y="1763640"/>
            <a:ext cx="767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ust because a polynomial has ‘n’ complex roots doesn’t mean that they are all Rea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5057640" y="2948040"/>
            <a:ext cx="3124080" cy="3186000"/>
            <a:chOff x="5057640" y="2948040"/>
            <a:chExt cx="3124080" cy="3186000"/>
          </a:xfrm>
        </p:grpSpPr>
        <p:pic>
          <p:nvPicPr>
            <p:cNvPr id="182" name="Picture 5" descr=""/>
            <p:cNvPicPr/>
            <p:nvPr/>
          </p:nvPicPr>
          <p:blipFill>
            <a:blip r:embed="rId1"/>
            <a:srcRect l="29002" t="26429" r="42078" b="24886"/>
            <a:stretch/>
          </p:blipFill>
          <p:spPr>
            <a:xfrm>
              <a:off x="5057640" y="3487680"/>
              <a:ext cx="3124080" cy="264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3" name="Object 6"/>
            <p:cNvGraphicFramePr/>
            <p:nvPr/>
          </p:nvGraphicFramePr>
          <p:xfrm>
            <a:off x="5408280" y="2948040"/>
            <a:ext cx="24116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08280" y="2948040"/>
                      <a:ext cx="24116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Text Box 7"/>
          <p:cNvSpPr/>
          <p:nvPr/>
        </p:nvSpPr>
        <p:spPr>
          <a:xfrm>
            <a:off x="1098720" y="3127320"/>
            <a:ext cx="35445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example, however, the degree is sti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ut there is on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 or root 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-1, the othe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ots must have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imagin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mpon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Descartes’ Rule of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22400" y="1687680"/>
            <a:ext cx="767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range the terms of the polynomia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descending degre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022400" y="2884320"/>
            <a:ext cx="76755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2268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times the coefficients of the term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hange sign = the number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ositive Real Roo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or less by any even numb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82560" indent="-2268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times the coefficients of the term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(-x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hange sign = the number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Negative Real Roo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or less by any even numb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100160" y="5826240"/>
            <a:ext cx="7562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amples that follow, use Descartes’ Rule of Signs to predict the number of + and - Real Root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f01"/>
                </a:solidFill>
                <a:latin typeface="Tahoma"/>
              </a:rPr>
              <a:t>Find Roots/Zeros of a Polynomial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23840" y="18194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find the Roots or Zeros of a polynomial by setting the polynomial equal to 0 and factor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332000" y="314964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re easier to factor than other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Object 6"/>
          <p:cNvGraphicFramePr/>
          <p:nvPr/>
        </p:nvGraphicFramePr>
        <p:xfrm>
          <a:off x="4873680" y="3147840"/>
          <a:ext cx="343044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3680" y="3147840"/>
                    <a:ext cx="34304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9"/>
          <p:cNvSpPr/>
          <p:nvPr/>
        </p:nvSpPr>
        <p:spPr>
          <a:xfrm>
            <a:off x="2583000" y="51973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roots are:  0, -2,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f01"/>
                </a:solidFill>
                <a:latin typeface="Tahoma"/>
              </a:rPr>
              <a:t>Find Roots/Zeros of a Polynomial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23840" y="1709640"/>
            <a:ext cx="771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we cannot factor the polynomial, but kno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roots, we can divide that factor into the polynomial.  The resulting polynomial has a lower degree and might be easier to factor or solve with the quadratic formul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047600" y="4951440"/>
            <a:ext cx="48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olve the resulting polynomial to get the other 2 roots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Object 7"/>
          <p:cNvGraphicFramePr/>
          <p:nvPr/>
        </p:nvGraphicFramePr>
        <p:xfrm>
          <a:off x="1125360" y="3571920"/>
          <a:ext cx="32166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3571920"/>
                    <a:ext cx="32166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Group 10"/>
          <p:cNvGrpSpPr/>
          <p:nvPr/>
        </p:nvGrpSpPr>
        <p:grpSpPr>
          <a:xfrm>
            <a:off x="3174840" y="3505320"/>
            <a:ext cx="5471640" cy="2784240"/>
            <a:chOff x="3174840" y="3505320"/>
            <a:chExt cx="5471640" cy="2784240"/>
          </a:xfrm>
        </p:grpSpPr>
        <p:graphicFrame>
          <p:nvGraphicFramePr>
            <p:cNvPr id="202" name="Object 5"/>
            <p:cNvGraphicFramePr/>
            <p:nvPr/>
          </p:nvGraphicFramePr>
          <p:xfrm>
            <a:off x="5132520" y="3505320"/>
            <a:ext cx="3513960" cy="278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32520" y="3505320"/>
                      <a:ext cx="3513960" cy="27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AutoShape 8"/>
            <p:cNvSpPr/>
            <p:nvPr/>
          </p:nvSpPr>
          <p:spPr>
            <a:xfrm>
              <a:off x="3174840" y="4620960"/>
              <a:ext cx="1861920" cy="368280"/>
            </a:xfrm>
            <a:prstGeom prst="borderCallout2">
              <a:avLst>
                <a:gd name="adj1" fmla="val 18750"/>
                <a:gd name="adj2" fmla="val -8333"/>
                <a:gd name="adj3" fmla="val 30379"/>
                <a:gd name="adj4" fmla="val 112490"/>
                <a:gd name="adj5" fmla="val -82907"/>
                <a:gd name="adj6" fmla="val 12091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(x - 5) is a facto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05" name="Object 9"/>
          <p:cNvGraphicFramePr/>
          <p:nvPr/>
        </p:nvGraphicFramePr>
        <p:xfrm>
          <a:off x="2112840" y="5873760"/>
          <a:ext cx="2170080" cy="63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2840" y="5873760"/>
                    <a:ext cx="21700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olynomial Expre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a monomial or a sum of monomials.  The Polynomial Expressions that we are discussing today are in terms of one variable.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220760" y="4654440"/>
            <a:ext cx="75740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olynomial Eq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wo polynomials are set equal to each 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58104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Complex Conjugates Theore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85680" y="1895400"/>
            <a:ext cx="777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s/Zeros that are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agi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.  Complex roots with Imaginary components always exist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jugate Pai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25640" y="4094280"/>
            <a:ext cx="777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+ 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) is a zero of a polynomial function, then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jug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- b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a zero of the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085400"/>
            <a:ext cx="7792920" cy="5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Find Roots/Zeros of a Polynom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004760" y="176220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 known root i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magin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can use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mplex Conjugates Theorem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1556280" y="2712960"/>
            <a:ext cx="6197040" cy="915480"/>
            <a:chOff x="1556280" y="2712960"/>
            <a:chExt cx="6197040" cy="915480"/>
          </a:xfrm>
        </p:grpSpPr>
        <p:sp>
          <p:nvSpPr>
            <p:cNvPr id="213" name="Text Box 4"/>
            <p:cNvSpPr/>
            <p:nvPr/>
          </p:nvSpPr>
          <p:spPr>
            <a:xfrm>
              <a:off x="1556280" y="271296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:  Find all the roots o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14" name="Object 5"/>
            <p:cNvGraphicFramePr/>
            <p:nvPr/>
          </p:nvGraphicFramePr>
          <p:xfrm>
            <a:off x="4849560" y="2739960"/>
            <a:ext cx="290376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9560" y="2739960"/>
                      <a:ext cx="2903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Text Box 6"/>
            <p:cNvSpPr/>
            <p:nvPr/>
          </p:nvSpPr>
          <p:spPr>
            <a:xfrm>
              <a:off x="2125800" y="316872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one root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 - 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" name="Text Box 9"/>
          <p:cNvSpPr/>
          <p:nvPr/>
        </p:nvSpPr>
        <p:spPr>
          <a:xfrm>
            <a:off x="966960" y="3862440"/>
            <a:ext cx="7810200" cy="24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Complex Conjugate Theorem, we know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t must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+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 third root also be imaginary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artes:  # of Pos. Real Roots = 2 or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artes:  # of Neg. Real Roots =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f01"/>
                </a:solidFill>
                <a:latin typeface="Tahoma"/>
              </a:rPr>
              <a:t>Example (con’t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1499040" y="1782720"/>
            <a:ext cx="6196680" cy="915480"/>
            <a:chOff x="1499040" y="1782720"/>
            <a:chExt cx="6196680" cy="915480"/>
          </a:xfrm>
        </p:grpSpPr>
        <p:sp>
          <p:nvSpPr>
            <p:cNvPr id="220" name="Text Box 5"/>
            <p:cNvSpPr/>
            <p:nvPr/>
          </p:nvSpPr>
          <p:spPr>
            <a:xfrm>
              <a:off x="1499040" y="178272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:  Find all the roots o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21" name="Object 6"/>
            <p:cNvGraphicFramePr/>
            <p:nvPr/>
          </p:nvGraphicFramePr>
          <p:xfrm>
            <a:off x="4792320" y="1809720"/>
            <a:ext cx="290340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92320" y="1809720"/>
                      <a:ext cx="2903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Text Box 7"/>
            <p:cNvSpPr/>
            <p:nvPr/>
          </p:nvSpPr>
          <p:spPr>
            <a:xfrm>
              <a:off x="2068560" y="223848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one root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 - 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Text Box 8"/>
          <p:cNvSpPr/>
          <p:nvPr/>
        </p:nvSpPr>
        <p:spPr>
          <a:xfrm>
            <a:off x="1192320" y="2692440"/>
            <a:ext cx="6958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roo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-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one facto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x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- i)]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roo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+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&amp; another facto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x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+ i)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y these facto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Object 9"/>
          <p:cNvGraphicFramePr/>
          <p:nvPr/>
        </p:nvGraphicFramePr>
        <p:xfrm>
          <a:off x="974880" y="4376880"/>
          <a:ext cx="7750080" cy="18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4376880"/>
                    <a:ext cx="77500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f01"/>
                </a:solidFill>
                <a:latin typeface="Tahoma"/>
              </a:rPr>
              <a:t>Example (con’t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499040" y="1782720"/>
            <a:ext cx="6196680" cy="915480"/>
            <a:chOff x="1499040" y="1782720"/>
            <a:chExt cx="6196680" cy="915480"/>
          </a:xfrm>
        </p:grpSpPr>
        <p:sp>
          <p:nvSpPr>
            <p:cNvPr id="229" name="Text Box 4"/>
            <p:cNvSpPr/>
            <p:nvPr/>
          </p:nvSpPr>
          <p:spPr>
            <a:xfrm>
              <a:off x="1499040" y="178272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:  Find all the roots o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30" name="Object 5"/>
            <p:cNvGraphicFramePr/>
            <p:nvPr/>
          </p:nvGraphicFramePr>
          <p:xfrm>
            <a:off x="4792320" y="1809720"/>
            <a:ext cx="290340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92320" y="1809720"/>
                      <a:ext cx="2903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Text Box 6"/>
            <p:cNvSpPr/>
            <p:nvPr/>
          </p:nvSpPr>
          <p:spPr>
            <a:xfrm>
              <a:off x="2068560" y="223848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one root i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4 - 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Group 14"/>
          <p:cNvGrpSpPr/>
          <p:nvPr/>
        </p:nvGrpSpPr>
        <p:grpSpPr>
          <a:xfrm>
            <a:off x="1154160" y="2806560"/>
            <a:ext cx="7185960" cy="1241280"/>
            <a:chOff x="1154160" y="2806560"/>
            <a:chExt cx="7185960" cy="1241280"/>
          </a:xfrm>
        </p:grpSpPr>
        <p:graphicFrame>
          <p:nvGraphicFramePr>
            <p:cNvPr id="234" name="Object 8"/>
            <p:cNvGraphicFramePr/>
            <p:nvPr/>
          </p:nvGraphicFramePr>
          <p:xfrm>
            <a:off x="5233680" y="3595680"/>
            <a:ext cx="16606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33680" y="3595680"/>
                      <a:ext cx="16606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6" name="Group 12"/>
            <p:cNvGrpSpPr/>
            <p:nvPr/>
          </p:nvGrpSpPr>
          <p:grpSpPr>
            <a:xfrm>
              <a:off x="1154160" y="2806560"/>
              <a:ext cx="7185960" cy="1241280"/>
              <a:chOff x="1154160" y="2806560"/>
              <a:chExt cx="7185960" cy="1241280"/>
            </a:xfrm>
          </p:grpSpPr>
          <p:grpSp>
            <p:nvGrpSpPr>
              <p:cNvPr id="237" name="Group 11"/>
              <p:cNvGrpSpPr/>
              <p:nvPr/>
            </p:nvGrpSpPr>
            <p:grpSpPr>
              <a:xfrm>
                <a:off x="1173600" y="2806560"/>
                <a:ext cx="7116840" cy="459720"/>
                <a:chOff x="1173600" y="2806560"/>
                <a:chExt cx="7116840" cy="459720"/>
              </a:xfrm>
            </p:grpSpPr>
            <p:sp>
              <p:nvSpPr>
                <p:cNvPr id="238" name="Text Box 7"/>
                <p:cNvSpPr/>
                <p:nvPr/>
              </p:nvSpPr>
              <p:spPr>
                <a:xfrm>
                  <a:off x="1173600" y="2806560"/>
                  <a:ext cx="567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f the product of the two non-real factors is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aphicFrame>
              <p:nvGraphicFramePr>
                <p:cNvPr id="239" name="Object 9"/>
                <p:cNvGraphicFramePr/>
                <p:nvPr/>
              </p:nvGraphicFramePr>
              <p:xfrm>
                <a:off x="6821640" y="2819160"/>
                <a:ext cx="1468800" cy="331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40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821640" y="2819160"/>
                          <a:ext cx="1468800" cy="33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41" name="Text Box 10"/>
              <p:cNvSpPr/>
              <p:nvPr/>
            </p:nvSpPr>
            <p:spPr>
              <a:xfrm>
                <a:off x="1154160" y="3222360"/>
                <a:ext cx="7185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n the third factor (that gives us the neg. real root) is the quotient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divided by                          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aphicFrame>
        <p:nvGraphicFramePr>
          <p:cNvPr id="242" name="Object 15"/>
          <p:cNvGraphicFramePr/>
          <p:nvPr/>
        </p:nvGraphicFramePr>
        <p:xfrm>
          <a:off x="1276200" y="4280040"/>
          <a:ext cx="4373640" cy="18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6200" y="4280040"/>
                    <a:ext cx="4373640" cy="18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6"/>
          <p:cNvSpPr/>
          <p:nvPr/>
        </p:nvSpPr>
        <p:spPr>
          <a:xfrm>
            <a:off x="6426360" y="4606920"/>
            <a:ext cx="1971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third root is x =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 Roots/Zeros of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023840" y="195264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the Fundamental Thm. Of Algebra, Descartes’ Rule of Signs and the Complex Conjugate Thm. to predict the nature of the roots of a polynom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063800" y="34131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skills such as factoring, polynomial division and the quadratic formula to find the zeros/roots of polynom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081080" y="4532400"/>
            <a:ext cx="456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ssons you will learn other rules and theorems to predic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oots so you can solve higher degree polynomial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" name="Object 6"/>
          <p:cNvGraphicFramePr/>
          <p:nvPr/>
        </p:nvGraphicFramePr>
        <p:xfrm>
          <a:off x="6095880" y="4272120"/>
          <a:ext cx="2195640" cy="20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272120"/>
                    <a:ext cx="219564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Factor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63596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Polynomial if, when they are multiplied, they equal that polynomial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555920" y="3435480"/>
          <a:ext cx="579096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3435480"/>
                    <a:ext cx="579096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5"/>
          <p:cNvSpPr/>
          <p:nvPr/>
        </p:nvSpPr>
        <p:spPr>
          <a:xfrm>
            <a:off x="1442880" y="4183200"/>
            <a:ext cx="659448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i="1" lang="en-US" sz="36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- 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i="1" lang="en-US" sz="36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+ 5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Fact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the polynomi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3822840" y="5329080"/>
          <a:ext cx="292716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2840" y="5329080"/>
                    <a:ext cx="292716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Since Factors are a Product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98560" y="226692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only way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equal zero is if one or more of the factors are zer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033560" y="3983040"/>
            <a:ext cx="76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only way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olynom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equal zero is if one or more of the factors are zer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38360" y="703440"/>
            <a:ext cx="719928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Solving a Polynomial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814320" y="6039000"/>
            <a:ext cx="779004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The only way that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+2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- 15 can = 0 is if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= -5 or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= 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22440" y="1776240"/>
            <a:ext cx="81835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9720" indent="-45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rrange the terms to have zero on one sid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2143080" y="2400480"/>
          <a:ext cx="559584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400480"/>
                    <a:ext cx="55958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13"/>
          <p:cNvGrpSpPr/>
          <p:nvPr/>
        </p:nvGrpSpPr>
        <p:grpSpPr>
          <a:xfrm>
            <a:off x="639720" y="2892600"/>
            <a:ext cx="7772400" cy="1036440"/>
            <a:chOff x="639720" y="2892600"/>
            <a:chExt cx="7772400" cy="1036440"/>
          </a:xfrm>
        </p:grpSpPr>
        <p:sp>
          <p:nvSpPr>
            <p:cNvPr id="117" name="Rectangle 8"/>
            <p:cNvSpPr/>
            <p:nvPr/>
          </p:nvSpPr>
          <p:spPr>
            <a:xfrm>
              <a:off x="639720" y="2892600"/>
              <a:ext cx="777240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09720" indent="-4539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Factor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18" name="Object 9"/>
            <p:cNvGraphicFramePr/>
            <p:nvPr/>
          </p:nvGraphicFramePr>
          <p:xfrm>
            <a:off x="2293920" y="3422880"/>
            <a:ext cx="2689200" cy="50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93920" y="3422880"/>
                      <a:ext cx="268920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Group 14"/>
          <p:cNvGrpSpPr/>
          <p:nvPr/>
        </p:nvGrpSpPr>
        <p:grpSpPr>
          <a:xfrm>
            <a:off x="639720" y="4087800"/>
            <a:ext cx="7772400" cy="1593720"/>
            <a:chOff x="639720" y="4087800"/>
            <a:chExt cx="7772400" cy="1593720"/>
          </a:xfrm>
        </p:grpSpPr>
        <p:sp>
          <p:nvSpPr>
            <p:cNvPr id="121" name="Rectangle 11"/>
            <p:cNvSpPr/>
            <p:nvPr/>
          </p:nvSpPr>
          <p:spPr>
            <a:xfrm>
              <a:off x="639720" y="4087800"/>
              <a:ext cx="777240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09720" indent="-4539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t each factor equal to zero and solve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22" name="Object 12"/>
            <p:cNvGraphicFramePr/>
            <p:nvPr/>
          </p:nvGraphicFramePr>
          <p:xfrm>
            <a:off x="2293920" y="4668840"/>
            <a:ext cx="4586040" cy="101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3920" y="4668840"/>
                      <a:ext cx="458604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355760" y="808200"/>
            <a:ext cx="81532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Solutions/Roots a Polynom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2160" y="1990440"/>
            <a:ext cx="7772400" cy="41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tting the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Factors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f a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Polynomial Expression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equal to zero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ives the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Solutions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Equ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en the polynomial expression equals zero.  Another name for the Solutions of a Polynomial is the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Roots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f a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Polynomial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747720"/>
            <a:ext cx="799308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Zeros of a Polynomial Fun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81080" y="2065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olynom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ually written in function notation or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1235160" y="3213000"/>
          <a:ext cx="725652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3213000"/>
                    <a:ext cx="72565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6"/>
          <p:cNvSpPr/>
          <p:nvPr/>
        </p:nvSpPr>
        <p:spPr>
          <a:xfrm>
            <a:off x="1042920" y="413244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olynom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ol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quation you get when you set the polynomial equal to ze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8386920" cy="14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Zeros of a </a:t>
            </a: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Polynomial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011240" y="2124000"/>
            <a:ext cx="777240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Zero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of a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Polynomial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Functio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ARE th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Solution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to the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Polynomial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Equatio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when the polynomial equals zero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Graph of a Polynomial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23840" y="1933560"/>
            <a:ext cx="36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the graph of our polynomial fun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31186" t="20283" r="43685" b="13214"/>
          <a:stretch/>
        </p:blipFill>
        <p:spPr>
          <a:xfrm>
            <a:off x="5856120" y="1801800"/>
            <a:ext cx="2003760" cy="2668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004760" y="4627440"/>
            <a:ext cx="775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Z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Polynomial ar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 polynomial equals zero.  In other words, 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alues wher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y equals 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Object 6"/>
          <p:cNvGraphicFramePr/>
          <p:nvPr/>
        </p:nvGraphicFramePr>
        <p:xfrm>
          <a:off x="2338560" y="3005280"/>
          <a:ext cx="274464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8560" y="3005280"/>
                    <a:ext cx="2744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Oval 7"/>
          <p:cNvSpPr/>
          <p:nvPr/>
        </p:nvSpPr>
        <p:spPr>
          <a:xfrm>
            <a:off x="6446880" y="2895480"/>
            <a:ext cx="1364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7095960" y="2895480"/>
            <a:ext cx="1368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2378160" y="3033720"/>
            <a:ext cx="4008240" cy="1706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2544840" y="3107880"/>
            <a:ext cx="4465440" cy="164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4:58:39Z</dcterms:created>
  <dc:creator>HCPS</dc:creator>
  <dc:description/>
  <dc:language>en-US</dc:language>
  <cp:lastModifiedBy>inass.ibrahim</cp:lastModifiedBy>
  <dcterms:modified xsi:type="dcterms:W3CDTF">2012-02-23T05:46:41Z</dcterms:modified>
  <cp:revision>26</cp:revision>
  <dc:subject/>
  <dc:title>Roots &amp; Zeros of Polynomials</dc:title>
</cp:coreProperties>
</file>